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28A-99D8-43FA-A911-A079746E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3CB-B6FE-4AFC-9238-E4DCE3A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118-C6A8-4D4D-8380-45F96F53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E7C-24AE-48F9-98BF-7D5FC482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852-7718-4695-8DC6-6E38BA8B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84A-1A42-430E-9C63-FD7673B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F4A-B960-47C7-B3F1-35AADBF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0D8-B715-4FA2-95F6-495E81C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217-8116-469B-A005-672033E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816-638A-45D7-954A-6625C6C7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480-5079-426D-BEE7-D66BED0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410-0117-474E-A896-8F2DE6C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6114-0180-4D0A-835C-9D5D0BB6F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2 Pod ochrano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jvyššieh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d ochranou Najvyšši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e moje, vždy sa t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ko Tvorcu všemocného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|: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a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ebo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bdi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obr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i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:|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d ochranou Najvyšši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spáse vedie tvoja p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búrkach žitia pozemsk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á on ti utonúť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je Pán Boh skrýša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oc, stála zášti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o víťaz vyjdeš z boja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ávy jas ťa uvít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vzdávaj sa svojho ci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 viere vždy pevne st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tom z ruky Stvorit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vyrve nik podiel tvo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09:41Z</dcterms:modified>
  <cp:revision>22</cp:revision>
  <dc:subject/>
  <dc:title>Je veľký náš Pán, on slávy je Kráľ Nech do všetkých strán  spev vrúcnych znie chvál.</dc:title>
</cp:coreProperties>
</file>